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35F-B447-4286-BCAE-8532EF5C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5F0-838F-40E3-86D8-49E18916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367-4B38-4CB6-9687-1014015F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A13-3332-4DF6-AA66-E9112117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6174-FFE9-42D0-BC20-A4F1B242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FC1B-5FFF-40C8-8E35-948BEA3E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967A-6730-4CD6-AF37-72C8E529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A1D7-0D95-4BC2-BC6B-07C51482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A7CB-E765-453E-8712-E888DE37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2A3F-1687-44F9-8DCA-C4B26368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4F29-D7BF-4D40-B9C5-78DE85C2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D8F-1297-4EE7-AAF0-F83A59E6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7BC2-6C66-43F6-8886-F3469685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A740-5F75-42E3-AFB3-E180380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F804-9E04-4232-8732-628475F9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48A3-02D8-4BDE-A7A0-E7C479DE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6124-6637-4BA4-9E22-8D698FB6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7BF-F786-4988-B04C-29269668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6DE-4D5F-4A1D-B450-78CBABC9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19C-8B31-41C1-A719-2B45567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E9D-B4C7-4F43-BFEE-3CBF0DCD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625-4576-4EC2-BEBB-0BD46E64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E62-AF39-46E2-8174-B9890238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9D8-6CFF-4410-95EF-A26B548C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4168-AE7D-4084-AA74-D2288A97E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074E-73EF-4B1A-98DC-AE507EC06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untercultur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ltural Upheav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attitude toward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bel Without A Cause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ames D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lessness &amp; frustration of young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rage against war in Vietn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reb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lowered women in trousers &amp; men w/ long h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53128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xual Revolut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control pill,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red Kins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xual Behavior in the Human 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stated that 10% of males were homosex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v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y Liberation Move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newall, 19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al attack on gay men by off-duty police offi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zed gay &amp; lesbian militan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d to gay liberation movement &amp; fight for gay/lesbian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y Liberation Front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anded equal rights &amp; social accep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s, parades, mar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81800" y="5303880"/>
            <a:ext cx="17622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icano Move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wn Power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as’ Mexican American Youth Organization- contributed to establishing child care, legal aid, housing, employment &amp;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a Unida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racial pride &amp; unity in Mexican-American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an-American studies programs on college campu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53240" y="0"/>
            <a:ext cx="2390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sian-American Move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ian American Political Al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Asian-Americans &amp; pushed for Asian and ethnic studies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Pow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d the need to establish a common Asian-American 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es &amp; demonstr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tive American Movem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Pow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w attention to living conditions on reser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ed reparations for treaties broken in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battles to acquire return of thousands of acres of 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untercultu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ly attributed to 3 “P’s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opulation bul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protest against racism &amp; Vietnam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permanence of prosper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92760" y="3733920"/>
            <a:ext cx="2451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20:33:36Z</dcterms:created>
  <dc:creator>emily.johnson</dc:creator>
  <dc:description/>
  <dc:language>en-US</dc:language>
  <cp:lastModifiedBy>emily.johnson</cp:lastModifiedBy>
  <dcterms:modified xsi:type="dcterms:W3CDTF">2013-04-15T20:59:46Z</dcterms:modified>
  <cp:revision>3</cp:revision>
  <dc:subject/>
  <dc:title>Counterculture</dc:title>
</cp:coreProperties>
</file>